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545-E48E-4921-8B33-15A3E56D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585-E943-45F2-852E-4C8BDD28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12FF0-E165-46E0-ABBC-A45C7AB4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41BF7-EE85-44E3-8BA1-30E31F65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84A59-B072-4085-B8DF-35A4A25C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9FA38-C1D0-4E84-B156-6C9DC6B2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213CE-C9F6-44BA-AE6E-44945287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17C31-2B73-4FBA-9303-3A526360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D3917-FEBD-40E2-9409-DAC7A51F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14F95-8D99-4517-A78F-DDCD6EC6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D19DA-76F6-4FFE-9E18-FD2CF106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5FC0B-28C5-44D7-8105-138F4CC0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842-4B6E-4174-A0F6-779AC4EA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AFB96-3903-4E6A-A386-C6B29AD6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57CF3-71AC-4CD2-B8D7-22FC16C3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D9DA3-7BDC-4157-BEDE-D81E7B90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FD6D5-F3F4-40D4-ADD0-1D5697BE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F5845-E578-4093-A4B4-DA566C5D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8558D-4199-465D-B8D6-7DD98C33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CF926-D3BC-494F-AEE1-01341B73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CD08F-0E5F-4E00-8CC7-242825A7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E8E94-8672-4DAC-8C65-1FEE1F64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36A41-D806-468A-B67A-405C466F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C90-6DB5-41F8-BA39-FA1B57E7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AB2E2-0E0C-425F-8CB8-829AFA12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D514E-C165-4165-B727-51A28DF1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5BC1F-1302-41A2-889C-5F0F31E7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682F6-F0DC-4823-AEE6-A9511212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C8CEB-44C0-4187-AE52-CB09E30D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B5BC7-A7CC-4B26-8B2E-E5D14D63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C1DA1-3541-417E-93D5-EC4BE21E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3F74F-A80A-433E-ABB1-A041B743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29D4F-8824-4D7B-8046-1CB267CD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55120-E32F-47C7-A19A-7011A55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116E-3AF9-42B3-B72B-6A943381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4A858-ACF3-4B4F-99CC-271B824F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86BA7-68F6-45BA-A4B1-96BAA4D4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86201-919D-44A7-B30F-D38FC3BE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21434-6C23-4FA3-972E-723DD0D0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89193-A4C5-4570-A9DF-EE2A90A8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2ABEC-9C7A-4F5B-9A6F-A641AEFE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DCC4B-DAEB-4694-A4C3-C75A2D02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C1106-6B7C-4810-9753-90190AF0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933AC-D9D5-46E5-B7B7-8FF7AAFC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71616-F81F-4F35-9B73-9F45418A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D9C8-5352-418E-AB6E-5A721C46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0ED02-E000-4305-91EB-BDA0C2A3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9ECC1-464C-4EE7-BD93-80B82E11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445A2-73FC-4BE0-86CF-B9F62C2C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AA6B1-817B-455E-90D4-22F7932E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A4B29-613F-4C28-B35A-45513D6A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E76FE1-D26A-414A-8D5E-4793EEEA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44221-CE8C-485D-A73B-4575F280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7D393-AC33-4A0E-976B-338FCCDF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FC57B-E726-40DA-A581-A8E119CA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177E0-ECF2-4088-8311-D5C129D7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6D37-D533-4866-826F-CAA40BF9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9F072-7E24-4CF8-A7D5-20170DBF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3E8A3-B2A9-45C5-9FE0-A965EFB6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80FFB-C533-4520-9436-0D824A5E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2E4AD-B0CF-4970-A3B7-A7DA7BF8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6FA82-1FA2-47EF-ABF9-B5A3BA7B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EDD1B-97D9-40EA-A699-C9777D7D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48A3B-72E4-446A-BB95-E32A4A7A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3F310-FCC6-4C0A-B68C-AEB35BFA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58497-30C7-4A87-938D-C07274EA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29B02-E1A6-480C-9DFC-EB6DF6B0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1370-E295-4271-A7EE-56A4576C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902969-41D4-4A04-9B69-0D4C4574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11D9B-3DB3-4BC9-A9E6-5165482B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8384A-A1EF-458C-901A-EB72ED1E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18693-5C71-4CA2-85B8-21760919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A77DE-323D-4F2F-B5AB-3BF6B3FB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CDC28-3D74-40C3-9054-10DFFCE6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F41B9A-90F2-44FD-8152-5070BAAD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EDDB8-91DF-4FDF-AB29-09BA177F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D1F49-8F94-4403-80BA-8D2BBF54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C9F1C5-BC39-4604-B761-9747D938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1E78-52E3-4BB0-A223-C969B1BE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ABD02-531D-4E5E-AF51-32A65B28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9A86FC-5D5C-4B69-8D2F-5832C758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68B0D-10AB-43C7-B4DC-88EEBCC7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29BB0-BAB7-4439-B2CC-DC99547B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64C11-6B62-4CA9-A7D5-FD4393A8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026C1C-D1AB-4B79-8AD2-078D6F00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58ED3-DF5A-4E1B-8F8F-69137492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DC31E-486E-4921-BECE-7DE05E2C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056DB-C0B5-4548-A18C-C53A4D77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4C270B-E25C-4220-93B1-0FDE9871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E495-9CDC-4836-9F6A-E987F6B2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C9AD5-3B99-4450-BE5E-3652F453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AF41A9-4619-46D4-925D-752DBCEC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FB8AD-A718-40E2-AE3D-C10E47A2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830501-1444-4354-88A2-17654EE9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FF9A81-FA06-4264-87B2-98BA091D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994259-66A1-42AB-B08E-3E9E4FA2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6BB787-C89B-429E-A5AD-CC5AFF65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F8EB0-0F6F-4004-85B5-733585CB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2033E-C8CE-4803-8F3F-5BB74D7D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4B9AB-0C77-479E-AD71-708F7704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81A4-9234-4818-84FF-A9447CC1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57082-745E-482A-863D-C4C0C98D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FE6D4F-AFE3-4975-A21C-1092E655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52924-4940-497D-B9AF-7F21DFB4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C1EE59-E27D-4635-93EF-7002464C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D60260-E8FB-4986-84E5-45A1326A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F0CB9-70D3-4E0D-889F-18E7F6AE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D0E7B-C3F5-4BC8-86BD-6FA9ED60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D2AD5-6C47-425E-A9DF-74D50041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6A5A3-1668-425F-9536-AA89ED7D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CDA3CF-626F-4BAB-924C-80263372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6D6-0F60-4B1F-86D7-8001673B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0D72-45AF-4379-B043-331C5FB0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69D9E-45DC-47D4-AE03-10163651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14CF81-11B0-4E1C-8538-A87989E3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A33038-01E9-4C97-8499-7791A6C0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F178F0-8BB0-4521-A40B-6DDE9A0F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5B880D-DF07-4875-AFBA-C4256C47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A7ECF9-5698-43F0-A7C1-1B9A6F4D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71E7BE-2DAF-4384-9ACA-4AC56749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39578-BBFE-43B3-83C7-7765596E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F9CD6-E062-43D0-B963-4707E37D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61D124-ECAF-4ACA-B968-E7FB04CE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5A77-450B-478F-861B-F8AB0FE4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DF6824-B504-40BE-A58E-BC3103CD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D88D36-DF32-4477-A206-9032592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EC336F-BF44-42F4-AC66-83168083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35FA77-2F67-48B3-B70E-778E29E1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B8B76-DE89-4133-8426-48B359D5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98A47B-AD29-4666-81BA-330E189C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EB6B6E-B2E7-4CBC-9E68-38EDFD8F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843802-290A-402C-B03B-F68B5645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99000F-9180-429B-A748-D5BD5DB2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DF711A-FBE0-4990-9756-FBBED973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B53A-40AE-467D-A995-681056F3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A1D304-D9F8-47E1-9476-AC3CE022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95814A-B77F-4A39-9150-8717EE03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F7B7D6-775F-452F-AF30-020AEF7E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23273-6629-4BF6-8B20-4AC5FE59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572F05-5B7A-4467-BE1A-F00CED94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448361-7EBE-45C3-8726-D2F772C6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49043-41B5-4E6B-9C03-6E1E6C90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C0B7F7-03B4-42C2-B911-D84BF482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D74B08-B5C3-4B57-9A3B-C18CE21F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E27E8D-9064-4CEA-98D7-326DB179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0E7B-F3CB-44C3-8FFE-DDF34A4B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6F8EC9-4746-40A2-9DCF-A72CC15D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41A428-6996-4A12-B3EE-6DDCA64E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52793-BB73-4AF1-8A69-C0C88C76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EEF04C-6148-49C3-B682-BC7EC30E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891CB-9ED1-4D8B-B310-FBC26E01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2EE3C9-2F52-4C2E-9170-29010497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F89AC-3E3C-4BDD-A841-3A386992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767D92-4DD6-4BE1-BD74-E684DD19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ABEC30-9110-4FA1-B995-964BFDC7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D86B75-549D-4ACB-A47A-41404C41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69BC-9338-47C8-A68C-B03D2FAB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67F37-73CE-45C4-912B-AB9C31E0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D5C590-2F03-4296-843A-89A0CEBC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9D72A2-CDCE-4DF6-B5FB-81BBCAF7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C12CA7-982B-40F1-880D-C8962F2F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32F5DF-FF99-4DCB-84E1-0A8C77A4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6C78AF-89BF-4AB9-A281-2B9EA7D9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07ED99-C62E-4114-A783-3277315F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531A8C-2D5C-4F57-A30E-30A14DD0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3CA244-E62B-4F6A-B808-53805EC9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067E3C-3990-447F-BF18-29B6AABF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504A-F5FE-4C2D-B683-AF7B66F5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F2B77C-307D-4305-BA99-85EBB5E2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C35C08-61F2-4618-8D49-0594818A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98D32-207D-4AD2-A325-BB596D32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0BFFD-093A-45C4-8AD9-E4772FB6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A538F-3AB1-4BBA-B106-8D0A1942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7A88C-B026-478B-B106-2C4A5C7D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227A9-5309-412D-9EFD-BD6AE9EA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DE1-622B-468E-AF57-2FBC808F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55535-214D-4490-AF4F-8110DB71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06D68-9E56-43AA-802D-FE366E38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7644C-E83B-46E0-B196-52E36BA3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1C26E-0B5B-4A11-950E-C04CE37A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B89AD-A5B5-4C3B-92CE-D98EF5A2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3543B-6ABB-44E2-BC29-355C3399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4A375-EF8C-4504-BEEB-FA96C574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E30BE-74F7-40E5-8404-56C4443F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718FA-5642-424F-9FCA-562DCC61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79FF3-11ED-4D8A-9119-EC48660C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F2B-FC99-471F-9BD7-B90F4AF3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F0F1A-AF53-43B7-A5B6-FBDA002D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EFC48-F6F4-4208-AEEA-0B5E95FC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C09B7-75C9-48B1-B8C3-BA126F7F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27E9-9204-4ACC-A9AC-DB67FBB2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8BB05-816E-410F-8A3D-F1A65D7F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2F8B3-C618-4243-9431-DA9B00BC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39CA1-F882-4670-AD1C-8C545EE3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59D9F-F5FB-46E4-924F-6463782F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15A03-6A20-4AC3-960B-77CCECB3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379F1-7332-488C-B29C-581B4A72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6D7-6475-4C55-B0D1-FEF1B931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B47A5-66FA-45BD-8583-ADDF31B2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F0275-5A70-414D-8D29-CCCE947F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0FCB-6E9E-42BA-B4D7-F6B27C94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20F1B-21B7-40DB-89A5-92547FBA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0AA4D-CAEF-48CD-8B66-A8244C0C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E7A0F-B302-4481-90F3-33C43E6B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D6DB0-5BF9-4ACC-BC38-64E20814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BFEFC-7D1C-4812-A5B8-C70ECCC4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7DDB1-E9D0-43C9-8D4D-CC31E8B6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A84E3-39FC-4C94-87C2-ED572846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67D-9C40-4C7A-99DE-9581179F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B6738-13EE-49AE-B8EA-8FEFBAB2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083F4-3D58-4F4F-AA10-C2B6252B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CE65D-DECE-4FEA-B68D-D6191C6D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740B7-CE80-4DA8-A407-A9967A26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128E7-4C8C-47C7-BC1D-FC2EFE9C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4BA2E-617E-4006-B062-5DCB2AB1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3B080-AF0D-4ACB-B9C8-F28AF5DE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D3F4F-F71B-4F7B-9F88-CEE55666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FB065-3F9F-4058-832F-FAEA512B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D2AEA-1450-40C7-9E00-7CA12B96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310-B981-4113-B43E-76DD244B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84F3B-3A62-4711-B8AA-A7E9CC1F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71987-23A6-4F82-93FA-64627046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F15D1-D6AD-42EB-8530-351FB2A1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410CD-9583-4CFF-889B-ECA1577D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00CF3-5B21-4361-BB07-9B29A782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CEE07-B79B-4B06-8610-894839BB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37353-C5AB-43E8-91DE-5BFBE2B2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21091-2F86-41AE-A281-1B6446D5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497B-2BE7-4B46-B976-FCCE7B78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DA1B3-8A63-4E7B-85EF-2CDC2932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D5D-2743-4989-B0DB-C496E681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08F7C-00DE-47AE-9339-086531D5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C0D01-BC92-4CE3-ABC5-BE5C4C5D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03598-8D0B-4573-907E-137204A1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9B945-7F0D-479C-B757-008A5B90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E4DAF-E666-435A-A8C8-A57948E4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69BE1-432F-4755-8797-1AE2E7C5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0DDB5-945B-4267-B0BD-198F5548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488BD-5CE1-48FB-9AAA-A52B780E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005AF-EBB0-484E-BF88-D1BB8A88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56824-BD85-4733-BC72-8546DBA2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4DA-B271-4EEB-8C46-EF71DE91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A89B1-2713-463D-BC95-956AFE94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C4C1F-FF61-42C4-9FF6-2423574F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4503B-DBAC-4943-93D6-6EC50587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429D5-DAA0-4D52-AA44-4B979516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8EFC2-38F2-4F7D-BB7B-E6F11DB0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DC6C2-63F6-4607-AE57-AE73D299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AE679-33EE-454D-9509-3D635B45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51989-0BB9-480E-B4CF-2DD588BE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38E82-557B-444A-86C4-7B59B63E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7497B-4566-4BA9-BA56-91E6C782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39AC-CB91-48C9-9207-5895D9673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8071-CF9C-47BD-957A-50F44EE831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21ED-AF05-479F-8229-B62AF40E94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DEE1-4D54-4143-B6CE-FA873B7249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35F4-940C-4257-B919-D0A2E3E3EA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A13B-29F7-499E-BA5E-66DB339AA0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C816-2D09-4888-96F9-26C5BC96A8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1D88-7AAC-4929-9BC5-A6DC002FAD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8051-2FEA-4000-ADE1-CB254E28F4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8265-C46C-4586-9F54-172D159753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86DD-093B-4DCF-B392-71CFE78C3F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7192-1B25-49C1-97EF-810BC0096D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BCB1-2617-454A-9697-8436888AF6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D292-CCAA-4528-AC0E-D52F975A11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F179-61D9-4BA6-91DD-E0069E0D93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35C2-9E74-4795-87C8-C4045DB877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7805-2FA3-48F4-B332-06F0302B89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68E6-A41F-41CB-A5ED-13E843701F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DF93-6752-4A8E-A1FC-35E4159F18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F09E-2758-4E23-BDA2-1193668EA4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DF6A-CEC0-4598-B999-041371B411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DE9A-6473-497A-BEA5-C57EEF0444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C3EA-5407-4480-A025-5225E97595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A591-2357-4679-B0AC-FB34E3EDA7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9289-3599-47C2-A0CB-6739EF9929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C2CF-50DA-4642-9D41-D7690EE3BF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CB84-08D3-4518-8376-E888FF8D31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1ADF-4959-4F7D-8158-9FD2B26FD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1F2D-078F-489E-BDA3-35D5A0A01B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EC8F-46D0-48E6-BC56-C91F35E2C5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0A35-810C-41E5-9788-7EEEE38B25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03B3-65D2-4F50-8A38-EB2ABD91A6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C9E9-423D-407E-9631-C3912A2D6A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5ED6-A05F-4DDA-952E-9C47704008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ABDE-F987-4589-B25E-54C32A87CE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1325-198B-4AFF-9EEC-39510614BC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796E-170B-43DE-9C64-FDF8D51321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E9BB-066C-4A35-BFC1-141D56293A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25E4-E2E0-45EC-BB24-0A4F8B5527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9AD6-4BE6-472C-A7DA-E0F3D9A4C4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000080" y="3005280"/>
            <a:ext cx="714384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85840" y="852480"/>
            <a:ext cx="8534160" cy="59342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750960" y="250020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50960" y="442764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163000" cy="42325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2" descr=""/>
          <p:cNvPicPr/>
          <p:nvPr/>
        </p:nvPicPr>
        <p:blipFill>
          <a:blip r:embed="rId2"/>
          <a:stretch/>
        </p:blipFill>
        <p:spPr>
          <a:xfrm>
            <a:off x="1916280" y="5072040"/>
            <a:ext cx="6656400" cy="1689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3"/>
          <a:stretch/>
        </p:blipFill>
        <p:spPr>
          <a:xfrm>
            <a:off x="885960" y="71424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4"/>
          <a:stretch/>
        </p:blipFill>
        <p:spPr>
          <a:xfrm>
            <a:off x="885960" y="307188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5"/>
          <a:stretch/>
        </p:blipFill>
        <p:spPr>
          <a:xfrm>
            <a:off x="885960" y="439740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324000" y="852480"/>
            <a:ext cx="8496000" cy="5791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2"/>
          <a:stretch/>
        </p:blipFill>
        <p:spPr>
          <a:xfrm>
            <a:off x="2000160" y="1398600"/>
            <a:ext cx="1714680" cy="369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3"/>
          <a:stretch/>
        </p:blipFill>
        <p:spPr>
          <a:xfrm>
            <a:off x="3714840" y="2357280"/>
            <a:ext cx="1571400" cy="368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4"/>
          <a:stretch/>
        </p:blipFill>
        <p:spPr>
          <a:xfrm>
            <a:off x="4357800" y="28576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5"/>
          <a:stretch/>
        </p:blipFill>
        <p:spPr>
          <a:xfrm>
            <a:off x="1857240" y="3327480"/>
            <a:ext cx="1143000" cy="3697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6"/>
          <a:stretch/>
        </p:blipFill>
        <p:spPr>
          <a:xfrm>
            <a:off x="6286680" y="42861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7"/>
          <a:stretch/>
        </p:blipFill>
        <p:spPr>
          <a:xfrm>
            <a:off x="3000240" y="5756400"/>
            <a:ext cx="185760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276120" y="766800"/>
            <a:ext cx="8591760" cy="60199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1785960" y="838080"/>
            <a:ext cx="1643040" cy="368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3"/>
          <a:stretch/>
        </p:blipFill>
        <p:spPr>
          <a:xfrm>
            <a:off x="5929200" y="17859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4"/>
          <a:stretch/>
        </p:blipFill>
        <p:spPr>
          <a:xfrm>
            <a:off x="3071880" y="2774880"/>
            <a:ext cx="1500120" cy="368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5"/>
          <a:stretch/>
        </p:blipFill>
        <p:spPr>
          <a:xfrm>
            <a:off x="2571840" y="3755880"/>
            <a:ext cx="19288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314280" y="1009800"/>
            <a:ext cx="8515440" cy="55623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4532400" y="41752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3"/>
          <a:stretch/>
        </p:blipFill>
        <p:spPr>
          <a:xfrm>
            <a:off x="6031080" y="46641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4"/>
          <a:stretch/>
        </p:blipFill>
        <p:spPr>
          <a:xfrm>
            <a:off x="6215040" y="5156280"/>
            <a:ext cx="1285920" cy="368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5"/>
          <a:stretch/>
        </p:blipFill>
        <p:spPr>
          <a:xfrm>
            <a:off x="6019920" y="612468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515440" cy="38862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2"/>
          <a:stretch/>
        </p:blipFill>
        <p:spPr>
          <a:xfrm>
            <a:off x="5357880" y="1389240"/>
            <a:ext cx="1571400" cy="368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928800" y="23572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4"/>
          <a:stretch/>
        </p:blipFill>
        <p:spPr>
          <a:xfrm>
            <a:off x="7500960" y="23670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5"/>
          <a:stretch/>
        </p:blipFill>
        <p:spPr>
          <a:xfrm>
            <a:off x="2428920" y="2838600"/>
            <a:ext cx="1857240" cy="368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6"/>
          <a:stretch/>
        </p:blipFill>
        <p:spPr>
          <a:xfrm>
            <a:off x="3643200" y="3317760"/>
            <a:ext cx="1428840" cy="368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7"/>
          <a:stretch/>
        </p:blipFill>
        <p:spPr>
          <a:xfrm>
            <a:off x="4786200" y="3807000"/>
            <a:ext cx="12859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21:34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